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9CD6-E454-4943-BC29-1CEF92294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5537-58E3-40A1-A6BD-B19052CAA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D333-0757-4120-BA8F-0380088EE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0508-12A0-4755-8E28-571A34C2D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7E537-A920-445D-AEBC-28460A1126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4BCAB-549A-43D5-8DB1-A60397634D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B1174-2CD5-4D3A-AE28-7A5AC7285C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00661-10A4-45E4-80CF-7A126F1DF7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03BE0-7364-4E2E-B5BD-22ACEE86CC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487D8-F649-41C5-9BBC-130ECF6BCB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28C91-891B-4895-98B1-F5D1AD982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99A3-0563-4230-8E04-022909F32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384AB-4EBB-4D04-AD29-64AB68A9D6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C95F0-4785-44C3-94FC-03B2BF5179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B95C3-54FF-454B-B0E0-EA331752A4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39D28-759C-456A-8751-B0577DCD17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E1362-2257-4CB0-A654-EDE0645B2E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0887-C83C-4A44-A188-DB3ABA751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273F-CB51-4419-BB66-52E92D700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7145-0C54-48B7-9D40-F20A3BAA5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3D02-9F77-48B0-BCD7-76EE129C1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C001-D870-448A-B7FD-199DA2E67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336C-A785-40E0-B1E4-1C03AF41E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7682-F249-45B0-890C-DC3B9E9D6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2A550CC-BA08-44E8-93FF-0177E1BC6BD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B910068-AE8C-4AD8-9943-E0FE971AA54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27AAAEC-276B-4AC7-AE47-B3E9A864947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5568CEE-CC2E-4E7A-8FB9-08D61313864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8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5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9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0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2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3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4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8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0" name="AutoShape 65"/>
          <p:cNvCxnSpPr>
            <a:stCxn id="338" idx="0"/>
            <a:endCxn id="337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AutoShape 66"/>
          <p:cNvCxnSpPr>
            <a:stCxn id="337" idx="7"/>
            <a:endCxn id="339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7"/>
          <p:cNvCxnSpPr>
            <a:stCxn id="338" idx="7"/>
            <a:endCxn id="339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3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5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6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6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492E-8D46-4166-97C9-DD4A3F7F98CE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72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82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4" name="Straight Arrow Connector 96"/>
          <p:cNvCxnSpPr>
            <a:stCxn id="603" idx="1"/>
            <a:endCxn id="594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5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0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0-12-02T13:14:17Z</dcterms:modified>
  <cp:revision>312</cp:revision>
  <dc:subject/>
  <dc:title>No Slide Title</dc:title>
</cp:coreProperties>
</file>